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554-0493-4E16-8C73-6BD0D79F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899-584F-4C15-A3C7-AE4242BF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D84-DA4A-44B5-A868-D079BEF5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4DD-5CBF-456A-BF88-1CF40C51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6974-69A8-42AA-A2DC-8A4AE2E6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E47F-302B-40BA-B54F-857392DC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3D46-3219-4AAC-B52A-F96F3D3E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6622-EA8D-4BC3-B597-9BDD4AAB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0D7A-4E94-4270-9ED6-0418A06B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CEE1-068F-40BA-960F-B7EADCFC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3790-A27A-4B73-8004-7A145D4C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86B-DD7B-457D-A596-EA285A3E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0807-1090-4DA5-AFDE-55A62D3F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9FA0-9E1B-4D35-B7F1-733268F3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FCE1-1665-4CA1-A9DF-0590C55C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C547-2742-4183-823D-2ADE7A8B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849C-A9DB-4DFD-B456-0DA28E00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B15-930C-450A-AF98-E2728231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DBC-319C-4E81-A90D-CABEEFBC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4E7-1BB4-4E31-9DBE-52370485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49B-836D-4163-B815-93A20CAC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293-BAD3-4788-A8C6-9EECE421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799-5E82-4DDF-8A43-CE72D536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DC5-FAF9-4CEA-8541-B4DA60FE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AC23-1783-46C8-8262-938B4A7260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6F9D-F562-492E-9245-DF6A9DDE0D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climatechange.foreignpolicyblogs.com/files/2009/03/450-world-wind-power.jpg&amp;imgrefurl=http://climatechange.foreignpolicyblogs.com/tag/wind-power/&amp;usg=__XKGf_ek4KNeF39j2LF8z9jdVo1I=&amp;h=505&amp;w=450&amp;sz=65&amp;hl=en&amp;start=9&amp;zoom=1&amp;tbnid=qkILqPsMA6JYRM:&amp;tbnh=130&amp;tbnw=116&amp;ei=UKo1TfDgH86s8Abbm9DMCA&amp;prev=/images%3Fq%3Dwind%2Bpower%2Bin%2Bthe%2Bworld%26hl%3Den%26safe%3Dactive%26gbv%3D2%26tbs%3Disch:1&amp;itbs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1412640"/>
            <a:ext cx="39956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Wind power is very good because th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nergy works by the wind. How it work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s there is a transformer then a generator, then high –speed shaft then it goes to the gearbox then, a low-speed shaft then after that, a brake and a Rotor Hub and there is a tower then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 rotor blade then after, Nacelle and last, a hub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260280"/>
            <a:ext cx="44654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IND POWER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773360"/>
            <a:ext cx="4356000" cy="5084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38098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idal ener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51280" y="836640"/>
            <a:ext cx="325116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idal energy, a very powerful source of energy on water. For an example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ere is a duct, then after, a turbine, that activates the rotor blades, then a generator module then a removable cassette that pumps the water, then after, a gravity base. The 1MW RTT unit for the duct diameter is 15 meters and is 19.2 meters and the turbine diameter is 11.5 meters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362400"/>
            <a:ext cx="5238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ener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280360" cy="1944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lar energy, is  very good for the earth because the sun makes it works by the sun. How solar energy works is the sun that shines on a Module then goes to a battery charge controller then after that, a battery then a DC loads then it goes to a battery syste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3270240" cy="3068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419640" y="3867120"/>
            <a:ext cx="40035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ydro ener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3640" y="1988640"/>
            <a:ext cx="2819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ydro energy, works by a generator and  how it works is the water flows through the rotor goes to the stator then after, a turbine generator shaft then a turbine then the water flows to the turbine blades and last, a wicket gate where the water leaves the ga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5337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uclear ener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51640" y="333360"/>
            <a:ext cx="3178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s are heated and the stea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oes to the turbine which spins because of the steam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ectricity is produced when the turbine spins. The electricity goes to the generator a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sent to peopl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1746360" cy="1341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nuclear power"/>
          <p:cNvPicPr/>
          <p:nvPr/>
        </p:nvPicPr>
        <p:blipFill>
          <a:blip r:embed="rId2"/>
          <a:stretch/>
        </p:blipFill>
        <p:spPr>
          <a:xfrm>
            <a:off x="4932360" y="4076640"/>
            <a:ext cx="4211640" cy="2781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3492360" cy="2708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268360" y="1700280"/>
            <a:ext cx="287532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5:08:19Z</dcterms:created>
  <dc:creator>HWDSB</dc:creator>
  <dc:description/>
  <dc:language>en-US</dc:language>
  <cp:lastModifiedBy>HWDSB</cp:lastModifiedBy>
  <dcterms:modified xsi:type="dcterms:W3CDTF">2011-01-19T14:51:58Z</dcterms:modified>
  <cp:revision>5</cp:revision>
  <dc:subject/>
  <dc:title>Slide 1</dc:title>
</cp:coreProperties>
</file>